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0.wmf" ContentType="image/x-wmf"/>
  <Override PartName="/ppt/media/image1.jpeg" ContentType="image/jpeg"/>
  <Override PartName="/ppt/media/image47.wmf" ContentType="image/x-wmf"/>
  <Override PartName="/ppt/media/image10.wmf" ContentType="image/x-wmf"/>
  <Override PartName="/ppt/media/image40.wmf" ContentType="image/x-wmf"/>
  <Override PartName="/ppt/media/image6.png" ContentType="image/png"/>
  <Override PartName="/ppt/media/image14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26.wmf" ContentType="image/x-wmf"/>
  <Override PartName="/ppt/media/image17.wmf" ContentType="image/x-wmf"/>
  <Override PartName="/ppt/media/image25.wmf" ContentType="image/x-wmf"/>
  <Override PartName="/ppt/media/image2.jpeg" ContentType="image/jpeg"/>
  <Override PartName="/ppt/media/image60.wmf" ContentType="image/x-wmf"/>
  <Override PartName="/ppt/media/image18.wmf" ContentType="image/x-wmf"/>
  <Override PartName="/ppt/media/image29.wmf" ContentType="image/x-wmf"/>
  <Override PartName="/ppt/media/image28.wmf" ContentType="image/x-wmf"/>
  <Override PartName="/ppt/media/image27.wmf" ContentType="image/x-wmf"/>
  <Override PartName="/ppt/media/image61.wmf" ContentType="image/x-wmf"/>
  <Override PartName="/ppt/media/image19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57.wmf" ContentType="image/x-wmf"/>
  <Override PartName="/ppt/media/image2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11.wmf" ContentType="image/x-wmf"/>
  <Override PartName="/ppt/media/image48.wmf" ContentType="image/x-wmf"/>
  <Override PartName="/ppt/media/image16.wmf" ContentType="image/x-wmf"/>
  <Override PartName="/ppt/media/image7.png" ContentType="image/png"/>
  <Override PartName="/ppt/media/image41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9.wmf" ContentType="image/x-wmf"/>
  <Override PartName="/ppt/media/image39.wmf" ContentType="image/x-wmf"/>
  <Override PartName="/ppt/media/image5.png" ContentType="image/png"/>
  <Override PartName="/ppt/media/image13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8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embeddings/oleObject10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9.docx" ContentType="application/vnd.openxmlformats-officedocument.wordprocessingml.documen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7.bin" ContentType="application/vnd.openxmlformats-officedocument.oleObject"/>
  <Override PartName="/ppt/embeddings/oleObject9.bin" ContentType="application/vnd.openxmlformats-officedocument.oleObject"/>
  <Override PartName="/ppt/embeddings/oleObject6.docx" ContentType="application/vnd.openxmlformats-officedocument.wordprocessingml.document"/>
  <Override PartName="/ppt/embeddings/oleObject3.bin" ContentType="application/vnd.openxmlformats-officedocument.oleObject"/>
  <Override PartName="/ppt/embeddings/oleObject6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8.docx" ContentType="application/vnd.openxmlformats-officedocument.wordprocessingml.document"/>
  <Override PartName="/ppt/embeddings/oleObject4.bin" ContentType="application/vnd.openxmlformats-officedocument.oleObject"/>
  <Override PartName="/ppt/embeddings/oleObject4.docx" ContentType="application/vnd.openxmlformats-officedocument.wordprocessingml.document"/>
  <Override PartName="/ppt/embeddings/oleObject1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E77E-D3FC-431D-B3F9-58CCD7BF91C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5002-07A4-4239-B842-3477925DFB2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51FE-CDDD-4FE6-868C-FE1C5C34442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EC2-4B8E-4613-9D66-40537BDB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A0A-4DD5-4D35-BE8B-98AAC697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CB6-4040-4435-8F33-7CA87A58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62D-8A9E-4989-A899-C6ECA29D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D55-F747-4BD7-B28E-1D1582FB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EE11-908C-4845-ACC5-1C272B94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CCA-8648-4B95-84E4-A9CE5DD3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66C-3C6A-423C-90F4-0E03255F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004-9273-4BBF-9ED3-F848ECB3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957-D115-4C5A-9E1D-3E6970FB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658-89AE-42E2-A2B8-DAD1B078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B23-FA7B-40D6-B26A-C864AB65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87DA-1FBE-4048-8709-EFD2F173CA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package" Target="../embeddings/oleObject2.docx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1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4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15.wmf"/><Relationship Id="rId18" Type="http://schemas.openxmlformats.org/officeDocument/2006/relationships/package" Target="../embeddings/oleObject7.docx"/><Relationship Id="rId19" Type="http://schemas.openxmlformats.org/officeDocument/2006/relationships/image" Target="../media/image16.wmf"/><Relationship Id="rId20" Type="http://schemas.openxmlformats.org/officeDocument/2006/relationships/package" Target="../embeddings/oleObject8.docx"/><Relationship Id="rId21" Type="http://schemas.openxmlformats.org/officeDocument/2006/relationships/image" Target="../media/image17.wmf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9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2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3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2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7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8.wmf"/><Relationship Id="rId22" Type="http://schemas.openxmlformats.org/officeDocument/2006/relationships/package" Target="../embeddings/oleObject9.docx"/><Relationship Id="rId23" Type="http://schemas.openxmlformats.org/officeDocument/2006/relationships/image" Target="../media/image29.wmf"/><Relationship Id="rId24" Type="http://schemas.openxmlformats.org/officeDocument/2006/relationships/package" Target="../embeddings/oleObject10.docx"/><Relationship Id="rId25" Type="http://schemas.openxmlformats.org/officeDocument/2006/relationships/image" Target="../media/image30.wmf"/><Relationship Id="rId26" Type="http://schemas.openxmlformats.org/officeDocument/2006/relationships/package" Target="../embeddings/oleObject11.docx"/><Relationship Id="rId27" Type="http://schemas.openxmlformats.org/officeDocument/2006/relationships/image" Target="../media/image31.wmf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4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3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7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0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4.wmf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6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7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4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9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5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1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52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53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54.wmf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5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7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5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61.wmf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299736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4.2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一阶线性非齐次微分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4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5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5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5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50"/>
          <p:cNvSpPr/>
          <p:nvPr/>
        </p:nvSpPr>
        <p:spPr>
          <a:xfrm>
            <a:off x="2448000" y="2951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阶线性非齐次微分方程的特点和解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51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6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6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1000080" y="1571760"/>
          <a:ext cx="7429680" cy="2143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1571760"/>
                    <a:ext cx="742968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3" descr="question-red.png"/>
          <p:cNvPicPr/>
          <p:nvPr/>
        </p:nvPicPr>
        <p:blipFill>
          <a:blip r:embed="rId8"/>
          <a:stretch/>
        </p:blipFill>
        <p:spPr>
          <a:xfrm>
            <a:off x="755640" y="765000"/>
            <a:ext cx="86364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29"/>
          <p:cNvGraphicFramePr/>
          <p:nvPr/>
        </p:nvGraphicFramePr>
        <p:xfrm>
          <a:off x="714240" y="3286080"/>
          <a:ext cx="7677360" cy="22813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75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4240" y="3286080"/>
                    <a:ext cx="767736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圆角矩形 1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8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9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7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30"/>
          <p:cNvGraphicFramePr/>
          <p:nvPr/>
        </p:nvGraphicFramePr>
        <p:xfrm>
          <a:off x="500040" y="714240"/>
          <a:ext cx="8182080" cy="578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9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0040" y="714240"/>
                    <a:ext cx="8182080" cy="5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31"/>
          <p:cNvGraphicFramePr/>
          <p:nvPr/>
        </p:nvGraphicFramePr>
        <p:xfrm>
          <a:off x="714240" y="4214880"/>
          <a:ext cx="7491600" cy="15714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1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4240" y="4214880"/>
                    <a:ext cx="749160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6"/>
          <p:cNvGraphicFramePr/>
          <p:nvPr/>
        </p:nvGraphicFramePr>
        <p:xfrm>
          <a:off x="785880" y="1785960"/>
          <a:ext cx="7764480" cy="7700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85880" y="1785960"/>
                    <a:ext cx="776448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7"/>
          <p:cNvGraphicFramePr/>
          <p:nvPr/>
        </p:nvGraphicFramePr>
        <p:xfrm>
          <a:off x="1000080" y="1285920"/>
          <a:ext cx="1428840" cy="41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00080" y="1285920"/>
                    <a:ext cx="14288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9"/>
          <p:cNvGraphicFramePr/>
          <p:nvPr/>
        </p:nvGraphicFramePr>
        <p:xfrm>
          <a:off x="2643120" y="1214280"/>
          <a:ext cx="4357800" cy="544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43120" y="1214280"/>
                    <a:ext cx="43578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722160" y="2293920"/>
          <a:ext cx="6753240" cy="88272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22160" y="2293920"/>
                    <a:ext cx="67532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857160" y="2786040"/>
          <a:ext cx="6850080" cy="977760"/>
        </p:xfrm>
        <a:graphic>
          <a:graphicData uri="http://schemas.openxmlformats.org/presentationml/2006/ole">
            <p:oleObj progId="Word.Document.12" r:id="rId18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57160" y="2786040"/>
                    <a:ext cx="685008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928800" y="3429000"/>
          <a:ext cx="6368760" cy="1074600"/>
        </p:xfrm>
        <a:graphic>
          <a:graphicData uri="http://schemas.openxmlformats.org/presentationml/2006/ole">
            <p:oleObj progId="Word.Document.12" r:id="rId20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28800" y="3429000"/>
                    <a:ext cx="63687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1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3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7" name="Object 2"/>
          <p:cNvGraphicFramePr/>
          <p:nvPr/>
        </p:nvGraphicFramePr>
        <p:xfrm>
          <a:off x="1000080" y="785880"/>
          <a:ext cx="6215040" cy="912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785880"/>
                    <a:ext cx="621504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7"/>
          <p:cNvGraphicFramePr/>
          <p:nvPr/>
        </p:nvGraphicFramePr>
        <p:xfrm>
          <a:off x="642960" y="1357200"/>
          <a:ext cx="7812000" cy="2743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40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2960" y="1357200"/>
                    <a:ext cx="7812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8"/>
          <p:cNvGraphicFramePr/>
          <p:nvPr/>
        </p:nvGraphicFramePr>
        <p:xfrm>
          <a:off x="857160" y="3857760"/>
          <a:ext cx="7115400" cy="22842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42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7160" y="3857760"/>
                    <a:ext cx="7115400" cy="22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5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5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52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6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5" name="Object 2"/>
          <p:cNvGraphicFramePr/>
          <p:nvPr/>
        </p:nvGraphicFramePr>
        <p:xfrm>
          <a:off x="1071720" y="714240"/>
          <a:ext cx="5792760" cy="1167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71720" y="714240"/>
                    <a:ext cx="579276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27"/>
          <p:cNvGraphicFramePr/>
          <p:nvPr/>
        </p:nvGraphicFramePr>
        <p:xfrm>
          <a:off x="785880" y="1285920"/>
          <a:ext cx="4924440" cy="1000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68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5880" y="1285920"/>
                    <a:ext cx="49244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28"/>
          <p:cNvGraphicFramePr/>
          <p:nvPr/>
        </p:nvGraphicFramePr>
        <p:xfrm>
          <a:off x="1000080" y="1643040"/>
          <a:ext cx="5934240" cy="15699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70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00080" y="1643040"/>
                    <a:ext cx="59342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29"/>
          <p:cNvGraphicFramePr/>
          <p:nvPr/>
        </p:nvGraphicFramePr>
        <p:xfrm>
          <a:off x="1074600" y="2422440"/>
          <a:ext cx="5759640" cy="10908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72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74600" y="2422440"/>
                    <a:ext cx="575964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30"/>
          <p:cNvGraphicFramePr/>
          <p:nvPr/>
        </p:nvGraphicFramePr>
        <p:xfrm>
          <a:off x="2643120" y="2143080"/>
          <a:ext cx="1285920" cy="433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5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43120" y="2143080"/>
                    <a:ext cx="12859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32"/>
          <p:cNvGraphicFramePr/>
          <p:nvPr/>
        </p:nvGraphicFramePr>
        <p:xfrm>
          <a:off x="1138320" y="3576600"/>
          <a:ext cx="6802200" cy="141300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177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38320" y="3576600"/>
                    <a:ext cx="680220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33"/>
          <p:cNvGraphicFramePr/>
          <p:nvPr/>
        </p:nvGraphicFramePr>
        <p:xfrm>
          <a:off x="2643120" y="3071880"/>
          <a:ext cx="558720" cy="642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80" name="Object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643120" y="3071880"/>
                    <a:ext cx="5587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35"/>
          <p:cNvGraphicFramePr/>
          <p:nvPr/>
        </p:nvGraphicFramePr>
        <p:xfrm>
          <a:off x="3286080" y="3143160"/>
          <a:ext cx="2863800" cy="451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82" name="Object 3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286080" y="3143160"/>
                    <a:ext cx="286380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36"/>
          <p:cNvGraphicFramePr/>
          <p:nvPr/>
        </p:nvGraphicFramePr>
        <p:xfrm>
          <a:off x="928800" y="4357800"/>
          <a:ext cx="5670360" cy="1000080"/>
        </p:xfrm>
        <a:graphic>
          <a:graphicData uri="http://schemas.openxmlformats.org/presentationml/2006/ole">
            <p:oleObj progId="Word.Document.12" r:id="rId22" spid="">
              <p:embed/>
              <p:pic>
                <p:nvPicPr>
                  <p:cNvPr id="184" name="Object 3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928800" y="4357800"/>
                    <a:ext cx="5670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37"/>
          <p:cNvGraphicFramePr/>
          <p:nvPr/>
        </p:nvGraphicFramePr>
        <p:xfrm>
          <a:off x="1363680" y="4861080"/>
          <a:ext cx="6353280" cy="882360"/>
        </p:xfrm>
        <a:graphic>
          <a:graphicData uri="http://schemas.openxmlformats.org/presentationml/2006/ole">
            <p:oleObj progId="Word.Document.12" r:id="rId24" spid="">
              <p:embed/>
              <p:pic>
                <p:nvPicPr>
                  <p:cNvPr id="186" name="Object 3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363680" y="4861080"/>
                    <a:ext cx="635328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38"/>
          <p:cNvGraphicFramePr/>
          <p:nvPr/>
        </p:nvGraphicFramePr>
        <p:xfrm>
          <a:off x="1214280" y="5500800"/>
          <a:ext cx="6500880" cy="928440"/>
        </p:xfrm>
        <a:graphic>
          <a:graphicData uri="http://schemas.openxmlformats.org/presentationml/2006/ole">
            <p:oleObj progId="Word.Document.12" r:id="rId26" spid="">
              <p:embed/>
              <p:pic>
                <p:nvPicPr>
                  <p:cNvPr id="188" name="Object 38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214280" y="5500800"/>
                    <a:ext cx="65008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9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9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9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0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0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0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0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1" name="Object 2"/>
          <p:cNvGraphicFramePr/>
          <p:nvPr/>
        </p:nvGraphicFramePr>
        <p:xfrm>
          <a:off x="785880" y="930240"/>
          <a:ext cx="5675400" cy="1069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880" y="930240"/>
                    <a:ext cx="567540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28"/>
          <p:cNvGraphicFramePr/>
          <p:nvPr/>
        </p:nvGraphicFramePr>
        <p:xfrm>
          <a:off x="1143000" y="1571760"/>
          <a:ext cx="6016680" cy="1071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4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1571760"/>
                    <a:ext cx="601668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1143000" y="1928880"/>
          <a:ext cx="6143760" cy="13111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43000" y="1928880"/>
                    <a:ext cx="614376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5"/>
          <p:cNvGraphicFramePr/>
          <p:nvPr/>
        </p:nvGraphicFramePr>
        <p:xfrm>
          <a:off x="285840" y="4357800"/>
          <a:ext cx="8643960" cy="17859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5840" y="4357800"/>
                    <a:ext cx="86439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30"/>
          <p:cNvGraphicFramePr/>
          <p:nvPr/>
        </p:nvGraphicFramePr>
        <p:xfrm>
          <a:off x="2071800" y="2643120"/>
          <a:ext cx="3643200" cy="647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1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071800" y="2643120"/>
                    <a:ext cx="3643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34"/>
          <p:cNvGraphicFramePr/>
          <p:nvPr/>
        </p:nvGraphicFramePr>
        <p:xfrm>
          <a:off x="1143000" y="3429000"/>
          <a:ext cx="6726240" cy="642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5" name="Object 3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43000" y="3429000"/>
                    <a:ext cx="67262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4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8" name="Object 2"/>
          <p:cNvGraphicFramePr/>
          <p:nvPr/>
        </p:nvGraphicFramePr>
        <p:xfrm>
          <a:off x="642960" y="785880"/>
          <a:ext cx="6159600" cy="1290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2960" y="785880"/>
                    <a:ext cx="615960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28"/>
          <p:cNvGraphicFramePr/>
          <p:nvPr/>
        </p:nvGraphicFramePr>
        <p:xfrm>
          <a:off x="857160" y="1357200"/>
          <a:ext cx="7429680" cy="13622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51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7160" y="1357200"/>
                    <a:ext cx="74296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29"/>
          <p:cNvGraphicFramePr/>
          <p:nvPr/>
        </p:nvGraphicFramePr>
        <p:xfrm>
          <a:off x="1571760" y="2143080"/>
          <a:ext cx="4189320" cy="1071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4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1760" y="2143080"/>
                    <a:ext cx="418932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31"/>
          <p:cNvGraphicFramePr/>
          <p:nvPr/>
        </p:nvGraphicFramePr>
        <p:xfrm>
          <a:off x="1071720" y="5000760"/>
          <a:ext cx="6786360" cy="14810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56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71720" y="5000760"/>
                    <a:ext cx="678636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32"/>
          <p:cNvGraphicFramePr/>
          <p:nvPr/>
        </p:nvGraphicFramePr>
        <p:xfrm>
          <a:off x="2214720" y="3214800"/>
          <a:ext cx="3500280" cy="928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9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14720" y="3214800"/>
                    <a:ext cx="35002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34"/>
          <p:cNvGraphicFramePr/>
          <p:nvPr/>
        </p:nvGraphicFramePr>
        <p:xfrm>
          <a:off x="2286000" y="4071960"/>
          <a:ext cx="2428920" cy="853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2" name="Object 3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86000" y="4071960"/>
                    <a:ext cx="242892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36"/>
          <p:cNvGraphicFramePr/>
          <p:nvPr/>
        </p:nvGraphicFramePr>
        <p:xfrm>
          <a:off x="5000760" y="4071960"/>
          <a:ext cx="2357280" cy="909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5" name="Object 3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00760" y="4071960"/>
                    <a:ext cx="23572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6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7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7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7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53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8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8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9" name="Object 2"/>
          <p:cNvGraphicFramePr/>
          <p:nvPr/>
        </p:nvGraphicFramePr>
        <p:xfrm>
          <a:off x="928800" y="857160"/>
          <a:ext cx="7572240" cy="1143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800" y="857160"/>
                    <a:ext cx="75722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28"/>
          <p:cNvGraphicFramePr/>
          <p:nvPr/>
        </p:nvGraphicFramePr>
        <p:xfrm>
          <a:off x="714240" y="1357200"/>
          <a:ext cx="6410520" cy="1143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92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4240" y="1357200"/>
                    <a:ext cx="64105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"/>
          <p:cNvGraphicFramePr/>
          <p:nvPr/>
        </p:nvGraphicFramePr>
        <p:xfrm>
          <a:off x="928800" y="2000160"/>
          <a:ext cx="6143400" cy="9288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28800" y="2000160"/>
                    <a:ext cx="61434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29"/>
          <p:cNvGraphicFramePr/>
          <p:nvPr/>
        </p:nvGraphicFramePr>
        <p:xfrm>
          <a:off x="1143000" y="4643280"/>
          <a:ext cx="6694560" cy="12146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9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43000" y="4643280"/>
                    <a:ext cx="669456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30"/>
          <p:cNvGraphicFramePr/>
          <p:nvPr/>
        </p:nvGraphicFramePr>
        <p:xfrm>
          <a:off x="1500120" y="2571840"/>
          <a:ext cx="3714840" cy="950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99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00120" y="2571840"/>
                    <a:ext cx="371484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32"/>
          <p:cNvGraphicFramePr/>
          <p:nvPr/>
        </p:nvGraphicFramePr>
        <p:xfrm>
          <a:off x="1071720" y="5429160"/>
          <a:ext cx="5715000" cy="121464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301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71720" y="5429160"/>
                    <a:ext cx="571500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33"/>
          <p:cNvGraphicFramePr/>
          <p:nvPr/>
        </p:nvGraphicFramePr>
        <p:xfrm>
          <a:off x="1643040" y="3429000"/>
          <a:ext cx="3286080" cy="814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03" name="Object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643040" y="3429000"/>
                    <a:ext cx="32860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34"/>
          <p:cNvGraphicFramePr/>
          <p:nvPr/>
        </p:nvGraphicFramePr>
        <p:xfrm>
          <a:off x="5072040" y="3429000"/>
          <a:ext cx="2500200" cy="7794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05" name="Object 3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072040" y="3429000"/>
                    <a:ext cx="25002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35"/>
          <p:cNvGraphicFramePr/>
          <p:nvPr/>
        </p:nvGraphicFramePr>
        <p:xfrm>
          <a:off x="1714680" y="4214880"/>
          <a:ext cx="3081240" cy="642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07" name="Object 35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714680" y="4214880"/>
                    <a:ext cx="30812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36"/>
          <p:cNvGraphicFramePr/>
          <p:nvPr/>
        </p:nvGraphicFramePr>
        <p:xfrm>
          <a:off x="4857840" y="4500720"/>
          <a:ext cx="3857400" cy="8571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09" name="Object 3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857840" y="4500720"/>
                    <a:ext cx="38574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1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1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1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2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60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2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2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2" name="Object 2"/>
          <p:cNvGraphicFramePr/>
          <p:nvPr/>
        </p:nvGraphicFramePr>
        <p:xfrm>
          <a:off x="785880" y="857160"/>
          <a:ext cx="6529320" cy="1379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880" y="857160"/>
                    <a:ext cx="65293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28"/>
          <p:cNvGraphicFramePr/>
          <p:nvPr/>
        </p:nvGraphicFramePr>
        <p:xfrm>
          <a:off x="928800" y="1714680"/>
          <a:ext cx="7429320" cy="13618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35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28800" y="1714680"/>
                    <a:ext cx="742932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29"/>
          <p:cNvGraphicFramePr/>
          <p:nvPr/>
        </p:nvGraphicFramePr>
        <p:xfrm>
          <a:off x="1968480" y="2289240"/>
          <a:ext cx="3538440" cy="779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7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68480" y="2289240"/>
                    <a:ext cx="353844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31"/>
          <p:cNvGraphicFramePr/>
          <p:nvPr/>
        </p:nvGraphicFramePr>
        <p:xfrm>
          <a:off x="1143000" y="5143680"/>
          <a:ext cx="6786720" cy="14810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339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43000" y="5143680"/>
                    <a:ext cx="67867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32"/>
          <p:cNvGraphicFramePr/>
          <p:nvPr/>
        </p:nvGraphicFramePr>
        <p:xfrm>
          <a:off x="2643120" y="3357720"/>
          <a:ext cx="2737080" cy="671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1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43120" y="3357720"/>
                    <a:ext cx="27370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4"/>
          <p:cNvGraphicFramePr/>
          <p:nvPr/>
        </p:nvGraphicFramePr>
        <p:xfrm>
          <a:off x="2489040" y="4229280"/>
          <a:ext cx="2165400" cy="825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43" name="Object 3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89040" y="4229280"/>
                    <a:ext cx="21654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36"/>
          <p:cNvGraphicFramePr/>
          <p:nvPr/>
        </p:nvGraphicFramePr>
        <p:xfrm>
          <a:off x="4929120" y="4214880"/>
          <a:ext cx="1581120" cy="879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45" name="Object 3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929120" y="4214880"/>
                    <a:ext cx="15811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2:18Z</dcterms:modified>
  <cp:revision>81</cp:revision>
  <dc:subject/>
  <dc:title>幻灯片 1</dc:title>
</cp:coreProperties>
</file>